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EF3-EADF-47F6-B43D-0B7638CC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8AC-808D-4291-99B3-CB18CF9D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74B-C0BC-4305-A780-65B79AA6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71B-F380-40EE-9E11-8E03A7E8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A8B-A991-41DE-A141-B8140CBB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51D-2FBB-4B75-9366-88314454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D47-89F8-4BEC-B81D-4F41DD81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676-BD18-4468-9B98-FC1064D1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117-FBBE-4C6E-9D2A-AB4B94CE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93D-1AEE-468D-892B-A6605707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6B1-B167-4D90-99F3-CB305203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767-904C-4F12-98B5-D23B55B9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7EDF-F35E-414D-A12F-B8CA65167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Expected Valu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 a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inear Mod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1219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08660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7086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16292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2133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1625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52480" y="4038480"/>
            <a:ext cx="5029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467840" cy="939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40384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572000"/>
            <a:ext cx="9907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467840" cy="939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35053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4038480"/>
            <a:ext cx="9907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286000" y="4648320"/>
            <a:ext cx="4419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239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23888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238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0:26:21Z</dcterms:modified>
  <cp:revision>43</cp:revision>
  <dc:subject/>
  <dc:title>PowerPoint Presentation</dc:title>
</cp:coreProperties>
</file>